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DB2-1A59-4E01-AD92-C5F50685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C036-64D3-4D08-BC8A-02E688EE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8F7A-B44A-45F8-A992-472C5E31D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A1E-D51D-4BA0-8277-E3571535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D188-F56A-4F1F-902E-C6BE5CB8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517-F65F-48AB-98A0-713C336E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8ECB-5F86-460B-AC45-C6CBA3A4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282-E849-460B-A826-9277D677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ACB-EA23-4E36-B5F9-6FABEECF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D2B7-C7A1-4EA9-8F5B-210516C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EF06-0700-47C7-B3EE-6F22375B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1E0-5427-48E8-921F-A3009DE1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F3EB-49D2-4EDE-AAE1-62F47B892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6960" y="304920"/>
            <a:ext cx="6810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ffff"/>
                </a:solidFill>
                <a:latin typeface="Arial"/>
              </a:rPr>
              <a:t>Mini Projec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9400" y="3429000"/>
            <a:ext cx="319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: Angel De La To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nando Sant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chard Cata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134440" y="533520"/>
            <a:ext cx="424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12560" y="3124080"/>
            <a:ext cx="40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why the fossil reco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gaps and what scient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doing to fill the g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52480" y="533520"/>
            <a:ext cx="515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4920" y="2306520"/>
            <a:ext cx="758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rvation: the state of being pre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r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cities green spac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00" y="4267080"/>
            <a:ext cx="838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silization: the act of being foss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Many of the bones of organisms millio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s ago have gone through the proces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ss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7880" y="3433680"/>
            <a:ext cx="84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8400" y="304920"/>
            <a:ext cx="803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More Key Words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81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N.A.-</a:t>
            </a: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It is the specific sequence of bases that constitutes the genetic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9625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"/>
              </a:rPr>
              <a:t>Genetic Data: facts and statistics of or relating to genes or here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304920"/>
            <a:ext cx="69595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hat Scientist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re Do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276720"/>
            <a:ext cx="8484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st are using the early forms of the organism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ter forms of the organisms and just mak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form of the organisms between those two. One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information that we found w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2:07:56Z</dcterms:created>
  <dc:creator>Mulholland  Middle School</dc:creator>
  <dc:description/>
  <dc:language>en-US</dc:language>
  <cp:lastModifiedBy>Mulholland  Middle School</cp:lastModifiedBy>
  <dcterms:modified xsi:type="dcterms:W3CDTF">1970-01-01T03:47:01Z</dcterms:modified>
  <cp:revision>2</cp:revision>
  <dc:subject/>
  <dc:title>PowerPoint Presentation</dc:title>
</cp:coreProperties>
</file>